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9A51-316A-430D-9311-8B2C0ABD1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C82F-3AA9-4584-90C2-6FD834657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E6B5-E5E7-4032-ADF7-649BC9F3F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D877-BF7B-47C4-BEA3-EDE54D33D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FDA6-D06C-4676-ACBE-24C212BC66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BD54-8730-4434-A6D3-14DE7760D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3B4F-203E-4A0D-86BB-73611C3C9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08A5-8765-4D9D-9E98-10145301A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C3C5-7343-4B7B-A248-39A1408B0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92B3-2AC4-4225-A03B-E8E7ACD6A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111D-E9A7-47DB-8AD9-6E407AF87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2AE7-644D-42F1-946E-0786D75E8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44C1-40E2-4DBA-B6D1-853BC7553C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1C19-8B5F-45AB-9691-5861C1D2EE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elcome 9:53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the feedback you could provide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the student has solved the problem, think of a challenge problem that you could provide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the student seems to be struggling, think of a scaffold question for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6861-205A-40DC-928A-F7A619BCB4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ass it o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752480"/>
          <a:ext cx="8229600" cy="246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85F5-A498-4F66-8753-A2F271CB30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k a walk and look at the collected work from all of the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D44E-D510-4EE5-A76D-B529A5B9B9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amp Journ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120" y="1599840"/>
            <a:ext cx="5257800" cy="3429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strategies do you use in your classroom to help students with patterning and algeb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BD76-FD2B-456A-8650-6779803BE5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freetechjournal.com/blog/wp-content/uploads/2010/12/press-journal.gif"/>
          <p:cNvPicPr/>
          <p:nvPr/>
        </p:nvPicPr>
        <p:blipFill>
          <a:blip r:embed="rId1"/>
          <a:stretch/>
        </p:blipFill>
        <p:spPr>
          <a:xfrm>
            <a:off x="6019920" y="1600200"/>
            <a:ext cx="2514600" cy="30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ind Your ‘Pattern Pardner’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other representations of your linear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489D-76C8-438A-9CCB-2A19FB0DD6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3E60-69B1-4CA2-80A5-4650A5DE0C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troduce your partn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your partner. We would like to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y com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y hope to get from this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20B1-D769-4412-A74D-F923EFE802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reakout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ant to explore the big ideas in Algebraic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ant to explore how we can support students by providing feedback in the moment that supports their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452B-8FCA-496F-881A-03FA0C3BAF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e Resource Corr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there is something this week you would like to share with the rest of the group, note the name, and particulars (e.g. author, web address, etc) and reason in the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source Corral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4515-2870-46A2-BEC8-CF522ABE0F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Our Camp Bandan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we progress through the week, note instructional strategies, big ideas, things that ‘stick with you’ on your band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2E1F-E99E-448A-ACE3-83D08433F0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 task for you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151E-35EB-4DE8-9241-8FCB5FA736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2286000" y="1600200"/>
            <a:ext cx="638172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k a walk and look at the solutions from the other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Your thoughts on what you obser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0021-9CC6-43D4-A106-1165569F04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types of respo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uld you anticipate students provi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 this same ta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1670-DF4F-4E6F-9422-A8A169EA18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Image Builder</cp:lastModifiedBy>
  <dcterms:modified xsi:type="dcterms:W3CDTF">2011-08-15T00:24:39Z</dcterms:modified>
  <cp:revision>31</cp:revision>
  <dc:subject/>
  <dc:title>&lt;Title&gt;</dc:title>
</cp:coreProperties>
</file>